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3.wmf" ContentType="image/x-wmf"/>
  <Override PartName="/ppt/media/image4.wmf" ContentType="image/x-wmf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6AD-575C-4DF6-83AC-E67EAD09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34C-7FC4-4395-A530-D5C287FA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C11-3A9B-4C36-A129-812FA3FE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A1F-5A52-4F07-A2A3-D79861CF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22F-810D-4184-9565-E264F810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5AB-09B3-4068-934F-361B680C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F46-8571-4DAF-8C40-25305A18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71D-6B6B-4851-981F-9E68B474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0E0-0400-4A41-BD60-B0015C35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E04-3E7B-464F-99A8-E34F4D17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701-B1CC-46DE-BB7C-B3757EDC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84D-B307-43BC-A363-57CA6FD1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72C4-0A2F-4C2D-8A10-434529DAE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66680" y="1752480"/>
            <a:ext cx="73915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cond Gra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er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732040" y="180036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http://www.cp-ws.com/images/WaterCycle2.gif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ater Cyc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Evapor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Condens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Precipit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Su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Heat from the sun changes water into water vap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c:\Program Files\Common Files\Microsoft Shared\Clipart\cagcat50\so01038_.wmf"/>
          <p:cNvPicPr/>
          <p:nvPr/>
        </p:nvPicPr>
        <p:blipFill>
          <a:blip r:embed="rId1"/>
          <a:stretch/>
        </p:blipFill>
        <p:spPr>
          <a:xfrm>
            <a:off x="685800" y="2122560"/>
            <a:ext cx="38098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38080" y="990720"/>
            <a:ext cx="75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hanges water into water vapor, this is call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EVAPOR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Condens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ater vapor forms cloud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c:\Program Files\Microsoft Office\Clipart\photohm\j0144391.jpg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57200" y="114300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When water vapor forms clouds this is called CONDENS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Rain or snow falls from clou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Program Files\Microsoft Office\Clipart\Pub60Cor\na01682_.wmf"/>
          <p:cNvPicPr/>
          <p:nvPr/>
        </p:nvPicPr>
        <p:blipFill>
          <a:blip r:embed="rId1"/>
          <a:stretch/>
        </p:blipFill>
        <p:spPr>
          <a:xfrm>
            <a:off x="380880" y="2895480"/>
            <a:ext cx="4146840" cy="346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Program Files\Microsoft Office\Clipart\standard\stddir3\na01681_.wmf"/>
          <p:cNvPicPr/>
          <p:nvPr/>
        </p:nvPicPr>
        <p:blipFill>
          <a:blip r:embed="rId2"/>
          <a:stretch/>
        </p:blipFill>
        <p:spPr>
          <a:xfrm>
            <a:off x="5105520" y="2895480"/>
            <a:ext cx="37036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11430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e call this </a:t>
            </a:r>
            <a:r>
              <a:rPr b="0" lang="en-US" sz="7200" spc="-1" strike="noStrike">
                <a:solidFill>
                  <a:srgbClr val="ccccff"/>
                </a:solidFill>
                <a:latin typeface="Times New Roman"/>
              </a:rPr>
              <a:t>PRECIPIT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Cycle Song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 the tune of  “She’ll Be Coming Around the Mountai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09480" y="1752480"/>
            <a:ext cx="815364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ter travels in a cycle, yes it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se pointer finger to draw large circle in ai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ter travels in a cycle, yes it do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peat above mo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t goes up as evaporatio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ise arms at side with palms 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s clouds as condens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ings hands together above head, forming large cloud shape with ar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n falls down as precipitation, yes it 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lowly lower arms at side with palms down, fingers mov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c:\Program Files\Microsoft Office\Clipart\standard\stddir2\en00501_.wmf"/>
          <p:cNvPicPr/>
          <p:nvPr/>
        </p:nvPicPr>
        <p:blipFill>
          <a:blip r:embed="rId1"/>
          <a:stretch/>
        </p:blipFill>
        <p:spPr>
          <a:xfrm>
            <a:off x="6858000" y="228600"/>
            <a:ext cx="1828800" cy="83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Program Files\Microsoft Office\Clipart\standard\stddir2\en00501_.wmf"/>
          <p:cNvPicPr/>
          <p:nvPr/>
        </p:nvPicPr>
        <p:blipFill>
          <a:blip r:embed="rId2"/>
          <a:stretch/>
        </p:blipFill>
        <p:spPr>
          <a:xfrm>
            <a:off x="457200" y="304920"/>
            <a:ext cx="1828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13:55:30Z</dcterms:created>
  <dc:creator>Sedalia</dc:creator>
  <dc:description/>
  <dc:language>en-US</dc:language>
  <cp:lastModifiedBy>teacher</cp:lastModifiedBy>
  <dcterms:modified xsi:type="dcterms:W3CDTF">2011-11-29T02:15:17Z</dcterms:modified>
  <cp:revision>2</cp:revision>
  <dc:subject/>
  <dc:title>PowerPoint Presentation</dc:title>
</cp:coreProperties>
</file>